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5D1-FC9B-42E1-BBA9-70FCBB56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51D-5F63-4FF0-914B-566F850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57D-E4A4-4548-ADAC-7100CBB0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B57-2A73-4235-A19D-EA931617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76A-5F6E-427E-B9E0-F85E42FF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173-5021-4C73-9C0E-D38C813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98E3-2E7A-4566-A63F-30B811E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DE1E-AC90-4876-97E5-89D0E32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EE1-3241-424F-837A-F4C9ADB5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603-58EB-4D85-9D8E-6C26902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1753-9609-4F26-95CB-5C26CAE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AE2-4CAD-41E9-AF8C-8FFEDAC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BC20-A1CC-4CF4-856F-AC51475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757-233D-4954-BB7C-945009D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1D6F-DC49-4EF6-9FDB-F8787589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5256-BB0D-464B-BAFC-BE34CE0D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6E5-E143-4336-BAD0-585C41BD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B11-47ED-41E1-B5F6-F7A6870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2D0-1BA3-493B-9B37-A310AA8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A18-97EA-4BD0-A894-705ECE1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3CA-0446-488C-B132-15C95E7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91B-3881-4A51-8D69-4A5B3BA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8D9-DC58-4DA9-9AF7-48F980B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94D-D407-4035-8C2D-5DB9C06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FF27-9155-406B-9499-CA13F8E6E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EBB6-E994-454F-8E17-776C31371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676160"/>
            <a:ext cx="85690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ffff"/>
                </a:solidFill>
                <a:latin typeface="Tahoma"/>
              </a:rPr>
              <a:t>NOI ŞI EMOŢIILE NOASTRE..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NOI ŞI DESENELE NOASTRE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A CALCULATOR POTI SA ADUCI APROAPE DE TINE TOT CE ITI PLA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962240" cy="310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3429000"/>
            <a:ext cx="5119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NT LUCRURI CARE SUNT MEREU CU NO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08360" cy="28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9640" y="3662280"/>
            <a:ext cx="4753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LA CALCULATOR, POŢI DESENA ORICE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4720" y="191592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HIAR ŞI O CASĂ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610080" cy="2255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353700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3068640"/>
            <a:ext cx="40626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CAND ESTI LA  CALCULATOR, AI CE JUCĂRII DOREŞTI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038480" cy="252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81760" y="1981080"/>
            <a:ext cx="317016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317016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00360" y="4724280"/>
            <a:ext cx="194292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UN CASETOF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3573360"/>
            <a:ext cx="194328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O MI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5805360"/>
            <a:ext cx="1943280" cy="8654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LETE DE TE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LA CALCULATOR TE POTI DESENA CHIAR SI PE TINE..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76720" y="4365720"/>
            <a:ext cx="3745080" cy="234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720" y="1825560"/>
            <a:ext cx="345600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43640" y="1916280"/>
            <a:ext cx="194328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CAND ESTI VES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4149720"/>
            <a:ext cx="194292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TR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381024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4000" y="2781360"/>
            <a:ext cx="1943280" cy="8650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RI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NE SUNTEM NO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751640" cy="297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4762440" cy="2976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88000" y="1413000"/>
            <a:ext cx="2303640" cy="12240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D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869000"/>
            <a:ext cx="2376360" cy="15112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54769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E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A MULTUMIM PENTRU CE AM INVAT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DA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ED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T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NI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DAL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0:11:26Z</dcterms:created>
  <dc:creator>Carmen</dc:creator>
  <dc:description/>
  <dc:language>en-US</dc:language>
  <cp:lastModifiedBy>curs</cp:lastModifiedBy>
  <dcterms:modified xsi:type="dcterms:W3CDTF">2011-02-25T15:12:28Z</dcterms:modified>
  <cp:revision>6</cp:revision>
  <dc:subject/>
  <dc:title>NOI ŞI EMOŢIILE NOASTRE...</dc:title>
</cp:coreProperties>
</file>